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AB7-A1BC-42A6-837D-D717DA23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CB1-874C-4294-9BCA-56318C3C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7AE-5FBF-4278-8BFF-77177BE9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CA7-A70C-45AE-8456-98CF5CF1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656-9DC7-4A7D-9FC5-20E326C6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980-0504-40A2-A63F-93CC9F3B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D80-1DF7-4E8C-8DEB-0B8577F7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93A-7D29-4FCD-9034-205C4530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C4E-6EFE-45DA-B162-6B0833CB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BB1-67B8-4539-92D9-F43299D0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EEC-FB5F-411F-88B8-51E0F57A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08C-3831-40D3-8A9C-785A8F13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9DA1-0F62-4E82-A33F-29F91CA82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goal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after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32000" y="2060640"/>
            <a:ext cx="2592360" cy="24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0880" y="8366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er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1440" y="580536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5440" y="566100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Long term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79240" y="692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1763280" y="1197000"/>
            <a:ext cx="158436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423040" y="1113480"/>
            <a:ext cx="1614600" cy="1372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619280" y="4221000"/>
            <a:ext cx="194472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4221000"/>
            <a:ext cx="165564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628640"/>
            <a:ext cx="38876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e 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customer m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feed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book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on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information on previous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628640"/>
            <a:ext cx="3887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e 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targeting of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ustomer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book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overbooking predictions – more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205000"/>
            <a:ext cx="3888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every 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customer m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2205000"/>
            <a:ext cx="3887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ights filled generates more pro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the airline to offer a more competitive pr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916280"/>
            <a:ext cx="38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ing of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pro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1916280"/>
            <a:ext cx="38876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gh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prediction increases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venue enables airline to offer more competitive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 remains viable and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 expands into new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Data storag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ways of structuring data into usefu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ining and advance data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cket Issu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goal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autoRev="1" nodeType="after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3:51:18Z</dcterms:created>
  <dc:creator>mcaiytf2</dc:creator>
  <dc:description/>
  <dc:language>en-US</dc:language>
  <cp:lastModifiedBy>Thomas Fitzsimmons</cp:lastModifiedBy>
  <dcterms:modified xsi:type="dcterms:W3CDTF">2002-12-10T20:38:06Z</dcterms:modified>
  <cp:revision>3</cp:revision>
  <dc:subject/>
  <dc:title>Management Information System</dc:title>
</cp:coreProperties>
</file>